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F84-0B56-415F-92E8-A1F02415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663-4A96-42FE-A053-84D244C7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690-1147-425F-86EC-3A28DDFB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154-2DAF-4A2A-9E3E-FF7D6C32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C8A-BCF4-43FE-BBE1-6937F773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7901-6CF9-4702-A8B5-B0611FD2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BAA-6E99-4793-B7D9-80ADF154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089-E9F4-469F-A633-F5062C8F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3B6-8745-4FE1-8C01-6E3BCA78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5F8-316B-4E10-A53C-700384A3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92A-B42F-4EC0-A226-511E721C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D95-8BCC-425A-B0FA-4F649A52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42F8-9C22-413D-8E14-98BEF47A4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agneto"/>
              </a:rPr>
              <a:t>Liceo Francisco del Rosario Sánch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cc"/>
                </a:solidFill>
                <a:latin typeface="comic"/>
              </a:rPr>
              <a:t>4</a:t>
            </a:r>
            <a:r>
              <a:rPr b="0" i="1" lang="en-US" sz="2800" spc="-1" strike="noStrike">
                <a:solidFill>
                  <a:srgbClr val="0000cc"/>
                </a:solidFill>
                <a:latin typeface="comic"/>
              </a:rPr>
              <a:t>to </a:t>
            </a:r>
            <a:r>
              <a:rPr b="0" lang="en-US" sz="7200" spc="-1" strike="noStrike">
                <a:solidFill>
                  <a:srgbClr val="0000cc"/>
                </a:solidFill>
                <a:latin typeface="comic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"/>
              </a:rPr>
              <a:t>matut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Prof.</a:t>
            </a:r>
            <a:br>
              <a:rPr sz="4000"/>
            </a:br>
            <a:br>
              <a:rPr sz="4000"/>
            </a:br>
            <a:r>
              <a:rPr b="0" lang="en-US" sz="8000" spc="-1" strike="noStrike">
                <a:solidFill>
                  <a:srgbClr val="ff0000"/>
                </a:solidFill>
                <a:latin typeface="Matura MT Script Capitals"/>
              </a:rPr>
              <a:t>Alba Castill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Tema:</a:t>
            </a:r>
            <a:br>
              <a:rPr sz="4000"/>
            </a:br>
            <a:br>
              <a:rPr sz="4000"/>
            </a:br>
            <a:r>
              <a:rPr b="0" lang="en-US" sz="7200" spc="-1" strike="noStrike">
                <a:solidFill>
                  <a:srgbClr val="ff0000"/>
                </a:solidFill>
                <a:latin typeface="Matura MT Script Capitals"/>
              </a:rPr>
              <a:t> Día de la Mujer</a:t>
            </a:r>
            <a:r>
              <a:rPr b="0" lang="en-US" sz="9600" spc="-1" strike="noStrike">
                <a:solidFill>
                  <a:srgbClr val="ff0000"/>
                </a:solidFill>
                <a:latin typeface="Matura MT Script Capitals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506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El día internacional de la mujer, originalmente llamado Día internacional de la mujer trabajadora, se celebra el día 8 de marzo y esta reconocido por la Organización de la Naciones Unida,(ONU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En este dia se conmemora la lucha de la mujer por su participacion, en pie de igualdad con el hombre, en la sociedad y en su desarrollo integro como pers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176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56000" y="260280"/>
            <a:ext cx="4680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En fiesta nacional, en algunos países la idea de un día internacional de la Mujer surgió a final del siglo XIX , en plena revolución industrial y durante el auge del movimiento obr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La celebración recoge una lucha ya emprendida en la antigua Grecia ya reflejada por Aristopanes en su obra Lisis tr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60400" y="1557360"/>
            <a:ext cx="323064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2920" y="260280"/>
            <a:ext cx="4249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Las mujeres parisinas, que pedían libertad, igualdad y fraternidad, marcharon hacia versalles para exigir su sufragio femenino, pero no fue si no hasta los primeros años del siglo XX  cuando se comenzó a proclamar, desde diferentes organizaciones internacionales de izquierda, la celebración es una jornada de lucha especifica para la mujer y sus derech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888000" cy="252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3938760"/>
            <a:ext cx="38163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Matura MT Script Capitals"/>
              </a:rPr>
              <a:t>Conclus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Esperamos le hella gu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5352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4:13:01Z</dcterms:created>
  <dc:creator>Wolf</dc:creator>
  <dc:description/>
  <dc:language>en-US</dc:language>
  <cp:lastModifiedBy>Wolf</cp:lastModifiedBy>
  <dcterms:modified xsi:type="dcterms:W3CDTF">2002-01-01T04:48:52Z</dcterms:modified>
  <cp:revision>2</cp:revision>
  <dc:subject/>
  <dc:title>Liceo Francisco del Rosario Sánchez </dc:title>
</cp:coreProperties>
</file>